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184-F5ED-4812-B52C-5303B336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F10-BFD4-47A3-910B-F8D24F50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7715F-80B8-4EEF-83CD-6DCE33FD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6A180-3F83-4207-99F3-99700353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58122-12EB-490E-B45F-9CDBEC3E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CF8DB-7856-4454-A92B-2F0809A0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F70F6-28C7-4250-A659-A4020CC9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7C94B-4515-472A-A170-DFA0B19E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35948-5B07-4C55-8CBC-5EB4DC6A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F1049-D145-4842-838A-38E2BE49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636F6-0327-43AB-8320-1030DD4D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4E32C-15BC-44E3-826B-79669080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513-FBF9-44D0-8BB2-66F00840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ABB12-8B7B-4C3A-8FF4-1D25B2F3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7B0F9-0BA7-4C3C-BA1D-975B536B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9E2F6-8EC6-407C-9E09-B6B43B6F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FAC84-349F-4CC9-80D1-800D43B9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6EB90-B699-41CE-82D7-B44DD79A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B9D11-0A3E-4A8E-8A05-528F756E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5916E-6E39-4902-871F-FC4C98CF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7C110-F8A2-45DD-B7F1-A3AE9E81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C448D-77C0-4D6B-900E-3B30ABFC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286C2-236C-4642-B80D-F96F4068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262-B6A2-4D87-8C55-8A8D7DB9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221D8-5E78-4079-B559-6360ED99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C4CB7-63D5-43BE-9381-6A3708B0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15829-A967-41BA-B270-E669DF3E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8A218-93A4-48A4-9D6F-D709BB1A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4A019-71FE-420E-99C9-E00BD8AB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28A3F-5ACD-4A68-A208-94190CF9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7E0BD-4E6E-45FE-AA4C-6E47176E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E8670-6CFF-42F9-A09F-92852340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37CFD-3031-40C0-85C9-3D4F3A53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26E0D-BD8D-482D-90D5-8F278B34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9D1B-042C-41A6-91E1-4D025EFA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6CBD2-6766-4C52-92A7-9FD6FB10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30FDC-31D8-4D3A-AACE-21DD01CD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8444F-10BD-4ACE-B6DE-B0E115FE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800CB-BC5B-4324-8FFF-A373ED34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DEDC1-910F-427C-ACDF-DE27F75A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BDB28-B5E7-4198-87B6-0C936359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0C360-92D9-4030-B379-295DAA70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7716E-B218-4BFD-B894-6D08D6CB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33936-2A0B-4009-A662-84C9CAD6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71130-77E1-4082-B671-BA7859C9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8B8F-E08E-486A-A6CA-399BBC99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26814-B655-4603-9EA8-25B84896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36429-C724-4979-882B-F58C4EE5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01A36-64DC-4080-AA9C-EA18736E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D6729-15E4-4015-9457-5DC4B1AD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C1636-29FF-4F86-9CB3-B6A0DBFA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6C6A2-3DC2-455E-8A9B-A864803B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8B52B-695E-40A1-A58C-200A796E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5E7D5-90B3-40FA-945B-DFFBFB87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547AC-AD57-4EDE-BE06-F7678257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9A93B-8783-486D-A9E0-1849F420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AA1E-881A-4EF7-9BE8-2FBD6E72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5319C-9CCA-4377-90BB-D467F245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C9E3E-1F86-47A9-8B9F-C1985D43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83C5D-84B5-488A-9061-CD69C10C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42892-D14F-49A1-BD39-06448D0C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B999D-FC5C-465E-923A-739CAEB5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89651-5CBA-4854-BB93-457E2B3A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5399A-8A6E-423B-B1F2-87B4499F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D422A-617A-46DF-8859-55D1364D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85339-1F2C-440B-A596-DF10D7C5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3C84B5-A241-4D97-B377-D7CC9C48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5CFC-A466-456A-87FA-1B59EF6D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0D12A-AEBF-4E62-872A-F0770281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3D3DAA-AFC3-4855-AAA6-72B3340F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EEDAC-2D5F-48C7-A520-4EB03065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E0EFC-9F2E-41CC-8DCE-4A8A8249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C33DE-6E86-488E-832F-5CE96727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03ED61-D0B7-4B48-85A6-5085104E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09664-4132-4C3C-A94F-41C3AE96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C88FE-2EB5-4C91-9E50-6FACCC55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4C65D-A121-4F06-97DA-D76CA003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17166-BF3A-4031-BC19-1BFCCF8C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9CCE-F60C-4DF6-9300-8B8BEEA5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00093A-41B1-4A46-90E2-06A33369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DE3DD-65DD-4488-B261-AAD8FD8C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9867F7-4557-4EA2-AA2E-A9023DC1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EAEB9A-437B-4159-A993-E2A7D1CD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55893-910E-46D5-A908-79CC3229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4D051A-FD96-409F-8B07-371E2CD9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80495C-CDE5-46DA-BE76-39FDBCFF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BBF8EE-691B-45C1-869F-9F6B852C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12A656-1B4C-4D8A-9AEC-3BF7DEC4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00754-BD0F-4A73-AB94-9BDF0DC3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20BD-A9FA-4876-AE54-3E13A903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D0B972-9674-4E30-9434-2B8D8222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BD4A0F-D792-4EB2-B88E-D0EA66F5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447E7-08DC-494E-A7CE-07E51CEF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F3F181-4751-4493-9F6B-6CBABE99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0651F2-5A62-4257-924E-290BD4BA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19A072-504C-4714-9B92-FAC7E955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E958FF-53EF-4DC5-9175-AA3E5E81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48ABC1-BDE2-44C3-8283-800A59FF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8976E7-CE02-497F-989D-776933A3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663048-E5F0-449E-B4A5-F653F5E4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072C-A0AB-427F-8FC8-FC5F760E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2E4447-E0DC-4343-88AD-192C7D91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7BDD64-D51A-4535-BC24-60CE5F9A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2519B1-5932-4199-B1F7-0FCF9095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AF03A-AA1C-4138-BC32-3B825850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103E21-8781-4721-9A26-A2B5ABEC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6B38E3-8515-4FD3-8983-05105985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0E47FD-2BBE-41AD-9476-08B95C89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3A7146-705A-423E-9C6B-145C59E9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9D8AD8-E632-4200-A0E9-38AC7488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7C76A6-30FB-4EFD-A7EB-25E1289E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F6F-EE3D-4980-9FA1-940DB5F0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F071-C61D-41DB-9884-3577F26A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8C7C28-6A3D-4E5C-BBEE-64E1E902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9F69D0-976C-475E-819C-52C3F05E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8D9D16-E552-4967-8CCB-068BA79C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421F25-4341-4EA3-8D62-A187C51C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9BD04F-337E-46C4-8D9B-D0B802C8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0B0343-B605-4A42-93FC-F27172B1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300A0F-05B7-45C0-90FB-05873841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F77493-A7C4-43BA-AC83-8C41D8CE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46C250-D434-4EDD-9602-B809B569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7D0620-1F8B-4DA2-AC13-9A941479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341C-DD96-496C-9A4F-45B7FD01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D40047-0E21-4AD4-804F-B9132A7F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9E3E69-E066-46C2-BAD2-2FF14869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6A2BC0-0994-4F8F-986E-B621F1F1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54851C-F0AA-4BA8-BF2D-5D1213C5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8C8F0B-B0AE-446F-91D6-79BABDCC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3A0EA-A9BD-4A19-BADF-E92352B8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6D9BD9-5BA8-446C-8DA1-0CB64137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565A2A-FC3D-4953-9AE0-6C9AE682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2E3223-2061-480C-923C-82BCEEE0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AD595C-FD56-4B84-B600-54EEAB96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9BAD-A15D-4944-AD80-D83D8841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E78F2C-3474-44AD-BEC2-D9F65913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A6E29F-351D-4E49-9DB4-15AE2E0B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167D22-6256-4AF2-9690-AE88AC0D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394286-113A-4409-8282-5B00D4EB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A6C150-C064-499D-80AF-D5D677CE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8E98C9-ABC4-432A-9437-1DF148BB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D82524-6315-43C1-9D27-C74D6F08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4EB082-DEA2-41FA-B5A8-484EBF8F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AAF3C6-32AF-4F24-9818-62C6DEF0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9DA6B0-302B-4CAB-BAD0-17A59D1D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5C9E-0FE1-468D-85F9-C59217F8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C108CC-A3C4-4E1F-8ACF-604DEACE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474DF4-31D6-493F-9BA8-BC75A315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BDCA5C-560F-460A-877F-E8C2D9C6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85128E-A2CC-47EE-9C51-A6FB305C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0A03B2-667F-4C47-86A3-DABE1899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91F01B-4721-43D7-BBF2-4129E0C4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06FB7C-8C22-424A-9C16-18F6EB60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4E7BB3-F923-488E-9C09-22E67B1A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51B28F-B3AA-47CF-A97A-2A35F1C0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BBD6E3-7D96-4897-801F-E81A9A0F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781C-7F82-4594-8D3A-1B403420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1EC026-EC65-4CE1-9208-599C6649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DF78CC-5834-4FF6-BCBD-1E7B29AD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C1F0A4-4058-4142-AD36-FB314C06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0B3B44-39FD-4648-A783-83045769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C82761-D564-4361-A0A2-B620FB99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7E0B12-3FFD-4C61-A7D7-7CD43CA9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C977F2-52A6-40A7-BD46-4574891F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F5C66F-AFEB-40E9-B6EC-32B1926C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13FCFD-4F26-43F2-9243-9D608B39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2EE443-7A30-4AF5-925C-C77D7A18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33FFF-E62F-4EB1-AE9D-4B753A35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4C2A94-3704-4A04-AB4E-4C88A81C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BFC0E0-0712-4BB2-B630-209D4B20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6D12D5-B942-4FBC-A612-383F62D2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1D22A-CFD9-49F3-AB25-352A9774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0D3C-00B5-44A9-92B9-F1CB06FD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868A5-083F-4DC7-94B2-63AE6096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B0A79-4AE4-498F-9CD9-59E65F60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C68C-F9E9-4E48-8F04-B3ABA28D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F3E26-7607-49CC-969F-B0D1356F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E7BD-E28D-46E8-ABEE-2BCD37CA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69FED-428B-49E5-8153-B972E547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974EA-66A3-4DDE-8321-14300D11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7F3D8-8621-4B6E-A149-38786AE6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530F4-B3F2-4174-A1CC-A46B9688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9E1A-1350-45C9-A0C0-4EBA6D29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EC15A-CCBC-4DE4-9F20-61681266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395C6-0F2D-4B90-A198-DDBE0AAE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D5BD4-3B3B-46A9-BD99-4BDC086C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D82-C2F9-4EDE-ABDC-684B59A9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DDA5B-CF3D-4981-873B-C498C12B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76E47-62CD-4FA3-9D75-24DD395B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61F26-56C6-4D08-A100-914BD3FF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14C00-4B0D-452D-87A8-609AB8E5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2A79E-08EC-40B4-9F31-F07C60F6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8EB70-3735-493E-A5CE-31D588EF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B1F8D-28B8-49C1-A316-08458CAF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37A88-18ED-4792-B04B-4E024D66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D6555-8971-4837-AC8A-804789B1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3EDA5-A1B0-4008-BA21-0EBF2512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53E-1FD4-4EA3-8271-789A0DD2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D9235-6D9F-4D4D-8C9B-C87E8783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0CA19-D767-491C-99A0-7CACAA08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9315B-D101-4A7D-80CE-D60F9588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13594-08D0-40B2-935F-B9EA9FCC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140C4-7589-46BB-85E7-EDF46C3A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1BCB1-EE78-4FF6-8266-520B5C3A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FC628-9EF7-4C4D-8240-B7D0B0DA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A6531-5834-4514-AC9D-96E05587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C1585-9171-4CE3-806C-422B8720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BC9F9-7CA4-41DB-8E9A-465E543D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291-B63C-431C-8B13-4290548A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B9142-95E1-42DE-AE0C-346D8D0D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46F69-9B95-4487-B6CA-0E5B6EFE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9E4E0-B6D1-498A-921C-8548A35C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3E9A5-628B-49A2-B182-B737E031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4E1B2-1608-480B-9DBE-6629E59F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3EE69-32D7-4861-83D7-257A434D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2956C-30A1-428F-A0D3-24FAE381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B9562-9A24-4373-92F4-B7D5C5F7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8C50F-C2F8-4B54-81F9-0279765D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EBB81-700F-4D84-947D-4961A899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B4C-A43D-48CF-88F0-52B977A4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E2AE7-C249-43F7-BA92-69414028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F6DED-1DE2-4C62-A053-C7A5D24D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D16DB-66D4-4F24-B5C8-2DF2C9CD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09973-09B3-43A9-AD1D-2A041BEE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B572D-0FC2-4653-B3DE-D825F8A1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179A8-25B2-49FE-A6B9-2E8BB437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A0846-3D06-418F-AC9B-36C21816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B3009-8C64-46F2-88EB-8A465412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DEB0C-54FD-4AB0-813C-48DD51D1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7FB51-5E0A-43E4-AE48-B007300E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A5C0-0A8D-4CC3-99A5-614C9ABA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AD396-8A46-4EB6-B87B-BCFE7E5A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5F008-5321-41C1-8F43-EA4D8D36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4D148-D60D-46FD-B13E-FD65413C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9F546-12A9-4F69-B4DA-0A02C520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13B13-B71E-4F57-88A5-64719C4A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E6813-FD35-4925-9714-16000364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0D0E5-34AC-49A8-986F-E9A7DFC1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41A71-5320-4E01-8777-DBB7E15B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928F7-7B51-4A67-8CA6-23866E01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0A36C-F557-40DC-B2DE-2849702A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A26-AD21-4147-8BDF-9F63ED97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491FB-D647-4D26-B4E7-52B02B8F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AF20B-8E7B-43B2-BBB8-4A25627A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8F33F-0F93-48C3-96D8-28D3939E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BE58F-B943-455B-B484-5F0E55BA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E7057-D882-4E72-B662-807C89B0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98E0D-E679-408D-ABBA-948F9925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5EBBB-D5F6-4DF6-AD94-E056C6DF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9BAD5-72B8-470A-85B0-C28DC735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99E58-4E20-4C55-B0F9-A77A896F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C4474-496E-414D-A2E9-60FF32B0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A929-64CA-471B-A024-3E2B63B12B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FFF3-C434-443A-82D7-EAAE2F320C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A1C9-6C71-4846-9D61-693DAA8E14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BE2A-2927-429F-A536-5D9B5323E1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868B-9ECF-4030-A32C-DB98DEF8F9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CAE8-56D2-4615-9B93-CFA73CDC83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860D-83E6-42B0-A727-87F3E77907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7281-E7A9-4FDA-BF7A-0106A7983B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95CB-75BE-41F8-A29F-9673B0D7EC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507F-A3F1-45C8-A73F-2C54125E55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0717-4AA5-49C7-BBE5-C7819A7CAE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2167-188F-4078-8751-B3FD681E30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D6BD-4D42-4D07-9635-80EC33828A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8ED8-52DF-4911-A090-819B1D4DF1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7301-AFCA-41AA-A57B-D269DBF405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AFD8-394E-436F-8B12-0408C01483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A6D7-769F-475D-BD4A-E1AD35B838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9ACF-8C5C-4D65-8396-20061A6616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AD4E-CB8D-4623-B495-01BB7C58F7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4368-ADEB-4FBE-96E0-BB8E5417A9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F61A-F69A-49F7-A0CA-7BF14FA197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CA24-CFD7-4289-BB58-616249AEDB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C897-8277-4FAA-85A1-00779431B5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7ACB-F3D9-4314-9B50-ECFEDC4A44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42ED-7EE2-43A8-ADE1-FA1DF95DC7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FEED-50C6-428F-AE9C-737F2B6F71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0FF2-EB96-4479-B58A-38E7891616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8E09-55AC-40C1-82FE-010BDA2CAD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47E6-7E26-4E4E-8C22-853BE6E522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0060-BC09-4E1B-B68E-D8C04277CF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CE0C-A978-4E4C-BD2B-C23DFC1BAD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66EF-4256-4C1F-816C-0299579D87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CF70-6E8E-4907-8B1D-DB741F5C3A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A48A-DA7E-473D-8297-02A3BB1B9C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2A5A-0DB0-462F-8491-BB94D2F0DD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51AE-ABE5-473B-A560-858992A4E5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C1AB-0B11-4834-8C30-804936562F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269E-C0BC-4AC2-BAF2-345016275B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71A5-4287-420A-8D00-C3108F34B6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8303-93E1-47EE-86AD-B32E2A5283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84106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243000" y="771480"/>
            <a:ext cx="8658000" cy="56102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2340000" y="3170160"/>
            <a:ext cx="446400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2340000" y="380376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3059280" y="445140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2987640" y="511344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6084720" y="5791320"/>
            <a:ext cx="230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6760" y="573120"/>
            <a:ext cx="8610480" cy="6095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708360" y="1527120"/>
            <a:ext cx="230364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292720" y="23493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236000" y="229068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164360" y="387504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498920" y="4653000"/>
            <a:ext cx="100980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924360" y="540216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792440" y="6180120"/>
            <a:ext cx="100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566640" y="2738520"/>
            <a:ext cx="8010720" cy="1380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6689880" y="2781360"/>
            <a:ext cx="1539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281160" y="946080"/>
            <a:ext cx="8581680" cy="536256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58374" descr=""/>
          <p:cNvPicPr/>
          <p:nvPr/>
        </p:nvPicPr>
        <p:blipFill>
          <a:blip r:embed="rId2"/>
          <a:stretch/>
        </p:blipFill>
        <p:spPr>
          <a:xfrm>
            <a:off x="1504800" y="3905280"/>
            <a:ext cx="73440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7352" descr=""/>
          <p:cNvPicPr/>
          <p:nvPr/>
        </p:nvPicPr>
        <p:blipFill>
          <a:blip r:embed="rId1"/>
          <a:stretch/>
        </p:blipFill>
        <p:spPr>
          <a:xfrm>
            <a:off x="738360" y="2557440"/>
            <a:ext cx="7667280" cy="17431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5003640" y="318456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2714760" y="3687840"/>
            <a:ext cx="287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590400" y="209520"/>
            <a:ext cx="7963200" cy="643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476360" y="2637000"/>
            <a:ext cx="259092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1533600" y="3371760"/>
            <a:ext cx="259056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5292720" y="2622600"/>
            <a:ext cx="259092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5392800" y="3357720"/>
            <a:ext cx="23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5435640" y="489744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1433520" y="5430960"/>
            <a:ext cx="155412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8"/>
          <a:stretch/>
        </p:blipFill>
        <p:spPr>
          <a:xfrm>
            <a:off x="2556000" y="5992920"/>
            <a:ext cx="273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85840" y="809640"/>
            <a:ext cx="8572320" cy="5238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7667640" y="170028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7596360" y="29973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7596360" y="43070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7667640" y="560376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6" descr=""/>
          <p:cNvPicPr/>
          <p:nvPr/>
        </p:nvPicPr>
        <p:blipFill>
          <a:blip r:embed="rId1"/>
          <a:stretch/>
        </p:blipFill>
        <p:spPr>
          <a:xfrm>
            <a:off x="223920" y="976320"/>
            <a:ext cx="8696160" cy="49053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2239920" y="2133720"/>
            <a:ext cx="432000" cy="382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2239920" y="2982960"/>
            <a:ext cx="432000" cy="3826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1692360" y="3832200"/>
            <a:ext cx="431640" cy="3826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2368440" y="3860640"/>
            <a:ext cx="432000" cy="3826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1692360" y="5343480"/>
            <a:ext cx="431640" cy="3826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2368440" y="5372280"/>
            <a:ext cx="432000" cy="3823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8"/>
          <a:stretch/>
        </p:blipFill>
        <p:spPr>
          <a:xfrm>
            <a:off x="2987640" y="5345280"/>
            <a:ext cx="432000" cy="38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404640" y="843120"/>
            <a:ext cx="8334720" cy="51717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1042920" y="5487840"/>
            <a:ext cx="381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05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